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47D-3C64-4A3C-9703-D8C4FD9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DDC-0B40-43BE-B3E4-C4A1C00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EBB-257C-44F6-8B89-D34BE8A3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D2B-BABE-45C1-A739-EBF0C996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061-534C-456D-B1C1-7B5BF3D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D02-1E82-4A95-A6C3-3D697D47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AE4-88A8-4EE9-9D1C-7BC2991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CCA-E15D-47CF-A025-9A5BEF3D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812-FD25-4620-9088-01E8FD4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6AC-5550-4623-AAFA-EADC793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5CD-B115-4407-AB85-E10F518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F41-FBE0-420C-AD23-F1CD7C2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A9E-AE9C-48A5-8C4D-0E9E4C38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(Aerobic)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process that releases energy from foo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Cellular Respir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tochondria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Cellular Respir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the presence of oxygen (aerob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ellular Respiration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+   6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----------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6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+  36 -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lucose molecule + 6 oxyg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water molecules  + 6 carbon dioxide molecules + 36 - 38 ATP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Cellular Respir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icient; provides lots of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  slow &amp; complicat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4:19:32Z</dcterms:created>
  <dc:creator>Clayton Johns</dc:creator>
  <dc:description/>
  <dc:language>en-US</dc:language>
  <cp:lastModifiedBy>NHS NPS</cp:lastModifiedBy>
  <dcterms:modified xsi:type="dcterms:W3CDTF">2013-11-07T16:50:57Z</dcterms:modified>
  <cp:revision>4</cp:revision>
  <dc:subject/>
  <dc:title>Cellular Respiration</dc:title>
</cp:coreProperties>
</file>